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CA4-826E-4A93-8145-E7998EAF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A4B-49B9-4701-AC05-678B9BAF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C9E4A-03F2-4B7C-896A-A371FE71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ACF65-C119-42AB-B4D2-DF2F500E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D3AC6-B65C-4F1B-BD56-D9764804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90A0D-3F17-4FB5-B625-A43ADF64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C922C-A500-47A4-A4CA-00D29350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D50F1-6205-4952-905A-72C2EE82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66DE8-04E1-415F-8B62-FCC37A1F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AA6CB-F89C-4F87-9ACA-2B69A540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F996D-6914-4017-ADBA-08127CC1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2CE6B-EF02-49F5-894C-DA421A5B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173-3D0F-4031-BCAC-82AA87A0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2F631-9912-4F4F-A049-B77CBAC4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50F36-71CB-47FB-A08F-7C5656F3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9A773-DD7C-459B-8C31-FF3DF752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72600-35D4-4C03-97EC-C608F2AD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05D34-E2E2-4176-89B0-38019F0B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CB0D2-993A-4268-9DE0-229948E1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14001-8861-48A2-8D9E-203ACCEE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8395E-2A73-4290-9E7E-20A44E02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C576B-B9B2-4397-8E27-E21085C3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36A99-023A-4E06-ACC2-FF8377D8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D56-7190-4FBD-8DAE-6E698B9C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BEE1A-509A-430F-8F6C-9018EF86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A3D6B-3955-4939-90D7-0E281677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95D2B-D594-45E3-8D34-4F4D5590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BCE3A-B9C2-4AA9-8E82-FA201C45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FBD48-EF7A-4941-B014-4DD58A5D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53214-7F72-43DF-A135-95DCD481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604EB-14BF-4FCD-8F61-90E1434E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42C01-138B-489C-A0A0-6079E980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6F5D0-B306-4234-A33A-299EE11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D2A08-1D45-4B05-A40D-F724FF3F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4C62-25C9-49BD-908C-BA7FE04B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85B41-8D40-4BA3-AFAA-D4A42186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470C3-9050-4B93-9453-A4468D4E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6CAA1-159C-4319-A07A-957B63B6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FB654-46E8-4675-96CC-710F3779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9BE04-B4EB-41E9-828E-A58B24F0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5ADC6-EC67-4F20-A0B5-9DE0C292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06D3C-247C-4913-A4B6-714BA9BF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2C3BC-39D0-490B-835E-A7AE126D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52DAE-75B2-4FAB-91AC-00B8401C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D613F-4212-4D02-BCB4-26C52599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2EA8-0ECA-4028-93F6-8C2EE207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67323-3BB2-4ED0-8412-7A6E627D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743F2-C963-49C6-8C01-1E364332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65E2E-CC3A-4FEB-A406-A9DF4F04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88003-BB0F-4E2E-91BF-9EA75482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073E8-DCCC-40F6-924A-C50BEF58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5FD49-A717-4759-A05F-97242424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4826F-3453-48F0-AF91-BB5097BC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6DDFD-CD09-4073-8FD2-B8F84001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082F6-6C46-4A53-9166-1675B426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54839-954A-4C95-AC47-4021372D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5A18-C27F-4224-92DB-519AC3CE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0AEA9-9CBF-4274-97AC-55CE641B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1F380-AF96-47DB-8E8B-940D102E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81AEF-19FD-45E7-B07A-EF2501E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920EE-D40B-4642-9BB6-609A87F3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D5512-B6D9-41BB-A772-23A68ED8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ACCD5-954B-4FB3-9F91-6B82A6C6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579AD-35D2-45A1-92AC-195CE9D8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4518D-8DB9-4044-A093-362E33D0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8A014-9464-4F93-8387-CFD227BA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FAB53-17F1-4074-9010-E1D15FA1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9FF3-A699-43DE-A928-D009F2E8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EF4DE-7067-43B7-908F-F6B5F41C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078C5-E79F-496B-8FAB-E171DF32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103F0-C6AF-4815-8330-B2BE6835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4066E-74F4-47E7-9924-19ED94BF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51F6E-B78F-4C20-A5A9-5D1EC386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1EE39-029D-4218-A4BC-AA8D44DB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54F0C-C5FF-4244-97B8-DB0D2F35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86311-A9E8-42D1-9515-6FFCEEFD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95196-6747-4F66-A045-1B5BD481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103A8-44B0-4C82-9BBB-FEA8C436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529F-007A-4F65-85BC-661D8CDC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6AE76-806E-4512-B78C-F31B2423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A32B9-8BC9-43D7-90CF-90D3183D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20F9E-65F7-4A00-9E5B-31A8BF02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9BDC7-A9F5-4FC4-A07E-DBF45008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43E4E4-D273-44F8-8F38-702BF1C2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0C5BF-69BA-4521-92BA-BF37B57E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6DA1D-D042-4632-AAD1-0852892A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85BEE-D70B-4096-91E6-B7D0A693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614DA-8531-427F-9B47-FE887194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56493-030C-49B0-8065-CA3DFAC2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67E5-23BE-48D1-A5DC-41E9879A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06D9E-AB02-4A41-AFF0-9346DA67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E41FE-AAEB-4A48-B522-9EF6C932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EF8CE8-8922-4693-9FC8-265D94D4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0A59C-65EC-42D8-ACD2-1E1B6F1F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16EF5-8D6C-4D3C-B6CD-433C37CA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78ACA-4647-429A-AD42-67085A7C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B1BCA-28D5-4F80-88BA-A84337BD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00C565-7C70-40CE-BE7A-106D5747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81A75-EAE8-49DD-884B-1E5BC3B5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F104D-BA62-4E42-A6B2-6B0AB4A0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1AE0-ACC5-4A77-A844-97A99C94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78E1E-1FC9-4BF3-A518-F07FFB55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1EC13B-9BF8-4084-865E-ABE80E20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F1A352-8E21-4522-96A4-574F4B4A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D7BBA-A418-4102-8C20-F40A31CF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886E1-6179-4433-BD4E-1DEE42E8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80F31-B1BF-45AA-A1A7-257CC18E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5014A-CAC2-44A6-A7CD-75670EA3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CCCED-894C-49F6-9417-26E94C75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FC508-CC1F-4AB1-B3D6-9D992FD3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5540D-121E-4DF9-A627-365D1B17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D2E-362A-4759-A3F7-DF9E0A59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4177-29AD-4504-8AA0-CF19275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247D5-F3EE-4CB6-926D-CFF33EEF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49224-A9E5-4939-A7E9-111FAFC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2B787-E130-47EA-B675-BB3446C5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184B3-66E6-4F62-A9CC-A33A3D18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D103F-DABB-4A97-AF52-4937E494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0D667-860C-4F0D-B985-9CA570B5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C22ADC-C904-468F-BAE1-FA7FF69C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80865-6713-44C1-BA37-EF32A37E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7BA6F-3010-4F43-A6CF-68E0A79F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82469-CDC3-4F9C-8F6A-BB3D51D4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7BAA-94A4-4F47-A0C8-15B555D2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59707-C915-4307-B6CC-CF1F91A9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0742A-1710-4E85-B370-F33A85B0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DD038-B615-486B-8B6F-1187A684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55F91-73D1-4B13-BB2B-47E98E4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AA32E-3673-429D-8E3D-7A7B0DD2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3630B-72C5-4A72-840A-5FE65D77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50090-CD81-4CB1-8C57-7A4A3925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B8ECB-A3A3-45AB-AF76-4E35CA69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C92B0A-60D4-4BD1-916D-D4D0825C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D26346-74DB-4403-8ADC-00B25F47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7A14-DDC6-4040-9C96-3E842E3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8E47D5-A195-48C9-A3C4-9303CF30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D213B3-6E23-4A28-8DC0-ECA7AFEF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3FB30-4BD4-4298-933C-92BC9856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BC662-BD65-49D9-B334-8FDD52C8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27A83-C05A-4027-B667-ABB1497E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6E35E9-EC28-4C4F-BC31-BFCFD5C6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65868-A0A7-48A6-ADCD-899451E5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4B536B-31CB-4557-863E-0B7625C5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55C71F-2E3F-4037-890A-A1AAF32C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7FF041-F072-489E-AEFE-775A8984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D6FF-DDF5-4B6A-AA2D-DEA31177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06125-804C-4E75-9680-3DED8341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14F53-066C-478C-A17E-B51E60AE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7316CC-0731-4B76-9907-89392E72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35D4D6-1C3A-410C-A3D7-5A26B4FA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AAA908-C793-40AC-BA78-34966919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4DDBEC-A1F6-4570-B2E2-EDDF0E2E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B34345-48D8-4E68-A77A-DFBB5FE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F78B6-595D-4EF2-B940-360EEF2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52C49C-9905-4C3D-B969-F19B1661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E7DCE-BFF9-434C-BBDA-4C664579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7861-29C9-4D46-8D8C-2CCF31D8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20D1B4-D6D9-44EC-AD9C-0CCB96E6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56E6E4-9F1C-440F-BBEE-9F78D4FB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AB6181-DF0A-46EB-930F-039DCA6B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849989-A688-42C5-833C-84A7E9E8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87ECA4-FC09-4794-8166-944D5919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DD29BD-7C1A-45E8-B429-7843922E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0BB6C-5F99-4972-A99E-05791F02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00C383-F864-4E07-B904-515561B4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E982BD-9801-4A8B-B852-94821AE3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FB0B99-32AB-4850-90DD-A1A8082B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6360-AD98-4C1A-AAFB-A287CF48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372A04-EE59-4860-A54B-505D9C2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5A0795-530A-4A69-AA50-493BD431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AF6FF9-DB24-4781-95A0-25A55E46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10CB46-C074-45D1-A67F-5F832802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512508-6E82-494F-8995-3B76018B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834BC7-EACF-4F4D-BA2F-5B7E7C37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FB1589-ABDF-42A9-952C-32D9D78D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D143FD-1FC5-4609-89B5-BBB097C6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BDF2BC-1845-424A-9034-9CC8E1A5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DE9443-63A3-4EBC-AB4C-84F7CD6C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6BC98-5973-4901-8B40-AB10CC2C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946567-A834-43F1-B653-D8FCBD8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E9467C-1E61-4BAD-8E1A-89BF8B5A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7679EF-3F8C-4B0E-890F-D7EB6556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2CE944-110D-4424-985F-53178994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AEB625-8A47-4FE8-A5E3-93AA580B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2E8F1B-CAB1-41E5-8202-01504E60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B9DC2F-ECB4-4751-BD07-26A097A6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BD7EB1-CC2C-40C0-9F11-DF93EA53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12A904-09A0-4F07-BD1C-6549223D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9D76D0-96E5-47CD-AFAC-14AC950D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0D3D2-B641-48E0-B0B4-046771D4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8408C6-8D78-4799-AB99-57446B6E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B5EB01-9D3F-4EFD-9F24-58F8C13A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581401-93AD-409E-938A-4DCE18A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5AB315-6628-4A5E-A2A6-0B134EB8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B158A4-E4FF-4A8C-90AA-AA263B58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C2DA5C-E4C7-4E9C-B597-8D99536D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718AC7-FD8E-417D-851E-9B2EE51A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4CCAD5-9E20-410A-8B09-9BB1797F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CECF3F-D6AA-4306-A486-DB38D288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7AFDCA-52D5-4F39-B157-A9DF5C51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4EDE-BB68-4D9B-923D-17E30B29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B64523-50DD-48D8-8345-71DCDA1A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EFD559-5647-44A5-B58F-BCA3821F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A646DA-988F-4695-A27A-07E30E4C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4EA1F0-9ECF-4056-B4F7-B4946617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667CC4-0E24-48C3-B311-CB9D741D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272A3A-4431-48E1-83B1-7B96DF6C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18414A-4A6B-49EA-8FEA-921F141C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7BF831-6BC0-431D-AA9B-7011F04F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3F3373-2A4C-4222-9DA1-CD03AFC7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887C52-9A7B-46FE-9E79-6FC0F4AE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7163-B6E8-4BD2-8CA4-5A95CCF9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4B067B-5494-4B3D-82D6-FFA779AA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BC75A7-4570-4376-8FBF-AC24A313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5541D7-63FD-4D72-831D-68D73052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62B3D3-9DAE-4F32-89E8-C48286C0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87F51E-9053-43D4-8BCA-2CDD0408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429557-68BE-4811-AD12-C24C3066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D93D5B-1E18-46DA-B9F1-0A0EF2AC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4C2863-E303-4589-84C5-60C22DFD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8AC0D4-50A0-4F7D-8834-F1DB5398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F4123C-D131-4395-9EE2-A8FDFE3E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69F-1BF7-44C3-A8AF-D214D18C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520F-A95A-4D52-BFE7-EF687D7B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0F4193-5DCA-49C2-92E4-D24448C3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A2940C-5EB9-4965-8225-E493D41C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ED2FC7-C9BA-4FA0-8E11-C42CD045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7BD1DC-ED3A-40A7-BAF0-34896F60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F13859-3A12-4D4B-BB8F-26D25B32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1B56D5-15EB-4029-A4FF-E0D4766F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1AA662-2FEA-41BF-B1C1-679F805E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D842A0-F5B0-4C06-92C1-E8308588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3D3AFE-BA40-4D92-A214-DCB5DAE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F01CB1-13C0-4F0E-A51E-E0165060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E467-AF94-4648-AE66-3556B6B5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281A46-DFBE-4356-B8E7-D46FD4A6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DFF291-5330-4825-A0BC-5B6C6C3D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7B5F3D-D239-4711-9F85-D3907224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6FFA7F-B9E6-4DB2-BDD3-FCFCFAE1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ACF1E0-8B6A-4D58-92D7-E076D267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4F2B54-9458-441F-B0D3-9F0AC7A2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D9EC38-71A1-43DE-96BF-E24434BE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C613C2-85FE-4929-89FE-665D54A5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860A15-80E1-4866-A20A-74F976CF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BA25BA-DFE3-4B5A-B87E-E889C8DF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55E1-977C-4010-BE2E-56E4445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7BD9DA-9768-4934-BB29-B6A2E5AF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099ACF-F654-435A-A546-BA8659C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4E2104-6BB9-4F53-A432-A6625E5A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3E989D-B399-45AF-809D-A11D6A70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F80410-056C-477A-BE16-6912D194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816810-A6DC-4A5D-AEDF-4C054EF0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D26D5A-A20C-4257-8D59-4EF4A723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D8A6C5-143F-48D0-A625-98A0CA08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33C5E8-35A1-4392-A76E-25A9F9DE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D2717C-59F4-4134-9C8D-44E7FCB9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1AE7-00DC-46B8-979D-14D0A3B4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EE80CC-7810-47E7-80CA-299B1C3D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6AF04F-0556-42B5-BA1E-02F7393E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0AB005-B20B-4ED1-9F55-89BBC815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765F08-5341-4B47-8DB7-53428C6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E049CC-7618-43E0-97A4-F1313C1C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0E6F5B-ECCA-4172-9A68-E99B16EB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9AA119-0630-4700-851C-DD709027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B47E70-4C95-4C37-8539-FE8E1280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CB49D8-59AA-4F1E-8A19-9C5CF2C3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D8095E-D404-4D11-9858-174F368D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1BB6-62BC-4A09-BD89-A90D0C6E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D1DCF3-6C81-4009-9436-D3779AD4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2E702D-3F2A-4A64-AC8D-D7F15EA3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73D098-D08F-46A0-8140-157F6251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BD4843-4A58-4415-B845-017482E6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3D4BBE-7E36-408E-9B7F-6FE16418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213E7D-7886-41A4-965B-629A9E9D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F86984-45B1-44D6-9380-DFED9C82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C6504B-59AF-4F09-A21E-5D382E68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F3D37F-DCE1-4765-A33E-D034F4A2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329BB8-C2E6-4593-B5A5-55A09576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06FF-11B9-4BD2-A972-19C7DADC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8BC3F6-D353-4D69-8643-07D34CBB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CB0824-9476-400C-921F-27FC6393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E489B3-3592-45E3-A875-1264E597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05C804-009D-4D2B-8673-D7C3E298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FE99BE-43B4-4BB9-82B1-1AD62E0E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0288C4-EC58-4C2B-904D-5D678AF9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BDD604-EFA2-4561-9CF7-996295DD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8ADEED-1198-4425-9FC9-13078825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524CF9-F722-441B-9CC8-4C3DDDFB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0A699B-1B6E-4158-910B-2199565E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B0C1-F74B-480E-9A16-9419EFD3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0F1DB3-8B30-4CCA-AF1A-09BDFCD9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103AA7-590E-427B-AA52-5F7A3CD2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FD071B-CEC0-4C4D-A68F-516707B4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B8A022-56CA-495D-8699-3A082838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EF6B47-1BDA-44E0-8154-FD44D619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3C5D5D-D16F-4E5A-BA9E-5370C81A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6E4AAE-B9DE-4B58-826F-0D1705E9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9F24C4-71B5-47B1-AC84-1008A361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65DCB9-6816-455B-897B-498810F6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B524C9-3CED-43ED-A7F8-17429312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6A67-C068-445F-9EFE-F099D1A2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BFA1D1-0834-4EF9-A902-7D2FDA1F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B8FFE9-42DA-4C7D-B45B-B80F8526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C9E898-91CE-402B-BF73-59ACC6DF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0738C-9073-44C9-A34F-32A6A4AE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6F6BF-9FFB-411E-A0D0-085CEB2C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51B-F198-4DDC-A422-EB9534D2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F896-FEEA-4E16-BDD4-41110C41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42D9C-994C-450F-A522-8DDF0CF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D974-2281-43D6-9FB5-EE1C913B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318C6-B2C5-4D55-A3BF-F5881B38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B156-880B-46C6-88F4-14A32A67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8CD9-0646-406D-B860-088B5FEB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97362-2CC0-47B2-B923-511E0DB2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2F8DD-318C-4C24-9DED-0F78CD5F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569E2-FA4A-42B9-AC14-1CC35134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C338-474F-4C95-BAD5-797F7549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E02-9932-42E9-B46B-E622476A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FD733-5D5C-4F52-82F7-948776E1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839ED-26AE-4A36-AB27-77FCFBB2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853CB-F097-4AE3-95DA-1AB84F37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D1E1-82E3-405E-A64D-7CF9F539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DC86B-51C9-4663-8C73-E1F597B7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E7DA8-936D-43D8-8183-92B6CCF6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16771-73D4-4029-B53F-C8F8A744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FD4EF-456F-4185-9B06-9CB58DB9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304CC-B9B9-484A-98A6-60CC9BC8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BCFDA-1FA1-4FB0-A599-E8350B68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709-1D32-4F03-9507-6D37D57F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DA80C-880B-4446-A491-4CBAF508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F8F43-033D-4D4D-9EEC-2D73CE66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0121F-47E2-48F9-921E-8A985E53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E0895-250B-427D-A885-56FBFA5F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CED18-E1F9-4915-A1E9-922F11AD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03503-102E-4750-8011-4DD09F63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08C51-6E9E-4DD7-A4A6-618062A7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C9A7A-E9FA-4C64-BC30-63D3EB9F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2358D-C591-4B07-B5D8-89EDC92C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33818-2A3F-4DC1-8A2B-23A3EEE6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147-422A-46D9-A20C-B89732D3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CB800-D290-4D5D-9165-5D1FADBC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8FEFA-D77C-4140-AA99-7E9B6C57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055DE-1943-4E12-B846-4C894974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CA9F-FB46-4DD4-A9F4-B00EDAE4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35DBC-C399-466F-BD8C-DC490760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91F2B-0226-4707-A15E-37321490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54BE4-0156-46C4-A692-959254A2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E1135-1037-4CB6-BAFD-A51E987F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3B8B4-9914-4907-804F-594715F5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61BD6-770D-49B1-92E6-2D600C05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DCA-C066-4225-9CC8-EF7D3FA0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E2345-547E-49D3-A0F7-5426F86F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F9A48-3F68-4EE3-ADE6-CF2942F8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49C09-6405-477C-B0D7-64FD73B8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534DC-021E-45EE-B3AD-4918FCB8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B8520-C1A3-423D-A736-6E47542C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3D86B-4779-42F9-AC87-A070C729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95F49-1F14-40BE-A7A7-5BE824E5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909F1-3E30-4640-A82C-C612A2DF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3DC48-A2C9-4EFC-B839-AA41ED1D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39DCB-CB23-4B4C-B59B-BD8C8933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308-6BD7-4D4E-93AD-B8286027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1BF79-6BA9-4145-AD6D-59B6972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BABE4-6005-4915-AD0D-00468640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0D7DA-7479-47CF-BAA5-E0EAC112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C1B09-DB20-4D21-B2B8-34E50DC3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7D880-DF25-43A9-82F8-D60E0E37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7AA3C-2DEE-4B6A-BEE6-688DB4D4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7F247-718F-454F-9C40-300452EE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9C716-AA06-4F67-B2F3-F63AA85A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D31AE-A4D3-4673-A4ED-20846EE0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EB263-398E-4827-8574-61712AA1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846E-0F56-449A-8924-ECD246CA5D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7F72-6A08-450C-AAD4-86DF07AA70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BD3A-C4CF-4E50-8593-4E2C331FC9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D0E9-76A8-4CEB-AD3F-21E98192EF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3DF5-269A-4A54-8A1E-13A44B2868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D89F-9F91-4B30-8DDE-05A24C59A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BFD8-2B04-490D-BCAE-1EE401825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9E4C-6668-4850-A1D1-128E93EAF6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188C-2B74-4043-85D1-B9D71BC1CE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3294-456C-492C-9916-743B60F11C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042C-08DD-405C-BD80-48D1564461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FE3B-9417-42B6-B31B-E7068BFDE5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32C7-D254-41BC-B651-7888FF4CD6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C401-F655-4434-A9E6-C987766F2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809A-6DDC-4A42-AFEB-DF3D36A913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1ED-2C0D-43CE-8E5F-10A24EE767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A81E-7F75-4437-81CF-9F83AAF277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3B62-E4B3-4DE4-ACB8-524221CF4A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B6FA-8E84-497F-9CA8-37539C4F0B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B663-C5DD-4834-AC1F-4E24A60039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C272-6053-435F-8399-204B17AF2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35D-7500-45F2-BD7D-EEFAC463ED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4874-CE31-432D-877C-ED7C877989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24B0-A475-4CCE-B679-B17AE5DFD4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C90F-D6D3-4293-80C0-C207475DB2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A474-4FCF-4C71-B471-ED80BA6CD8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7FA4-13D5-4063-ADBE-EF17106353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C5F6-7BE7-4142-AA11-825FAFFED9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E748-CC22-4801-A5D2-681389D1AB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79C0-DB81-4F92-95B7-0DC901B134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2E7E-3495-43EC-9600-117354DDE4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E658-D1D8-468C-A979-DCFCFFF9DF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BA69-63F6-4247-8137-0F08CB8C7B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68A5-330E-43CA-9B5B-3783377A8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9E84-B7C0-40C5-AB2D-5F22A80D49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131A-FE3A-4AA5-AA8E-D27E66759C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D760-BAAF-4296-8B49-65DC7B9A96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2CDB-2D27-4FBD-8AE2-97994EFA2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866F-8119-49B5-901D-B23B3F5195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90BE-E50A-49CE-A942-2369A62DC9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BC50-92E8-44AF-9655-9A66AE99DC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B2B4-BA48-4418-A5F7-97D1E34EDA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508F-2978-4F34-BDFB-0CBACC6396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2674-E730-466B-B9A3-0F2B325F3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9179-DA76-4C50-BCDA-78C1DB41AC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0621-B87A-409D-8117-999C653E2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6219-733C-4D4A-A8DC-B960D8B0FE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1504-0CB7-4D92-A403-EE7798C123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624C-FF73-448B-89AC-2465C088AE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08FE-4E35-4625-BC73-BD7965A53F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924200" y="2948040"/>
            <a:ext cx="52956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79873" descr=""/>
          <p:cNvPicPr/>
          <p:nvPr/>
        </p:nvPicPr>
        <p:blipFill>
          <a:blip r:embed="rId1"/>
          <a:stretch/>
        </p:blipFill>
        <p:spPr>
          <a:xfrm>
            <a:off x="471600" y="1442880"/>
            <a:ext cx="8200800" cy="3972240"/>
          </a:xfrm>
          <a:prstGeom prst="rect">
            <a:avLst/>
          </a:prstGeom>
          <a:ln w="0">
            <a:noFill/>
          </a:ln>
        </p:spPr>
      </p:pic>
      <p:sp>
        <p:nvSpPr>
          <p:cNvPr id="1451" name="矩形 79874"/>
          <p:cNvSpPr/>
          <p:nvPr/>
        </p:nvSpPr>
        <p:spPr>
          <a:xfrm>
            <a:off x="7740720" y="1925640"/>
            <a:ext cx="43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78849" descr=""/>
          <p:cNvPicPr/>
          <p:nvPr/>
        </p:nvPicPr>
        <p:blipFill>
          <a:blip r:embed="rId1"/>
          <a:stretch/>
        </p:blipFill>
        <p:spPr>
          <a:xfrm>
            <a:off x="542880" y="1424160"/>
            <a:ext cx="8058240" cy="4009680"/>
          </a:xfrm>
          <a:prstGeom prst="rect">
            <a:avLst/>
          </a:prstGeom>
          <a:ln w="0">
            <a:noFill/>
          </a:ln>
        </p:spPr>
      </p:pic>
      <p:sp>
        <p:nvSpPr>
          <p:cNvPr id="1453" name="矩形 78850"/>
          <p:cNvSpPr/>
          <p:nvPr/>
        </p:nvSpPr>
        <p:spPr>
          <a:xfrm>
            <a:off x="6227640" y="3933720"/>
            <a:ext cx="9651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78851"/>
          <p:cNvSpPr/>
          <p:nvPr/>
        </p:nvSpPr>
        <p:spPr>
          <a:xfrm>
            <a:off x="1370160" y="4941720"/>
            <a:ext cx="593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77825" descr=""/>
          <p:cNvPicPr/>
          <p:nvPr/>
        </p:nvPicPr>
        <p:blipFill>
          <a:blip r:embed="rId1"/>
          <a:stretch/>
        </p:blipFill>
        <p:spPr>
          <a:xfrm>
            <a:off x="509760" y="2166840"/>
            <a:ext cx="8124480" cy="2524320"/>
          </a:xfrm>
          <a:prstGeom prst="rect">
            <a:avLst/>
          </a:prstGeom>
          <a:ln w="0">
            <a:noFill/>
          </a:ln>
        </p:spPr>
      </p:pic>
      <p:sp>
        <p:nvSpPr>
          <p:cNvPr id="1456" name="矩形 77826"/>
          <p:cNvSpPr/>
          <p:nvPr/>
        </p:nvSpPr>
        <p:spPr>
          <a:xfrm>
            <a:off x="3132000" y="3170160"/>
            <a:ext cx="1184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77827"/>
          <p:cNvSpPr/>
          <p:nvPr/>
        </p:nvSpPr>
        <p:spPr>
          <a:xfrm>
            <a:off x="3995640" y="4168800"/>
            <a:ext cx="863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76801" descr=""/>
          <p:cNvPicPr/>
          <p:nvPr/>
        </p:nvPicPr>
        <p:blipFill>
          <a:blip r:embed="rId1"/>
          <a:stretch/>
        </p:blipFill>
        <p:spPr>
          <a:xfrm>
            <a:off x="509760" y="1305000"/>
            <a:ext cx="8124480" cy="4248000"/>
          </a:xfrm>
          <a:prstGeom prst="rect">
            <a:avLst/>
          </a:prstGeom>
          <a:ln w="0">
            <a:noFill/>
          </a:ln>
        </p:spPr>
      </p:pic>
      <p:sp>
        <p:nvSpPr>
          <p:cNvPr id="1459" name="矩形 76802"/>
          <p:cNvSpPr/>
          <p:nvPr/>
        </p:nvSpPr>
        <p:spPr>
          <a:xfrm>
            <a:off x="8136000" y="1846440"/>
            <a:ext cx="431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76803"/>
          <p:cNvSpPr/>
          <p:nvPr/>
        </p:nvSpPr>
        <p:spPr>
          <a:xfrm>
            <a:off x="1116000" y="2349360"/>
            <a:ext cx="43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76804"/>
          <p:cNvSpPr/>
          <p:nvPr/>
        </p:nvSpPr>
        <p:spPr>
          <a:xfrm>
            <a:off x="2700360" y="2359080"/>
            <a:ext cx="7272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89089" descr=""/>
          <p:cNvPicPr/>
          <p:nvPr/>
        </p:nvPicPr>
        <p:blipFill>
          <a:blip r:embed="rId1"/>
          <a:stretch/>
        </p:blipFill>
        <p:spPr>
          <a:xfrm>
            <a:off x="514440" y="1190520"/>
            <a:ext cx="8115120" cy="4476960"/>
          </a:xfrm>
          <a:prstGeom prst="rect">
            <a:avLst/>
          </a:prstGeom>
          <a:ln w="0">
            <a:noFill/>
          </a:ln>
        </p:spPr>
      </p:pic>
      <p:sp>
        <p:nvSpPr>
          <p:cNvPr id="1463" name="矩形 89090"/>
          <p:cNvSpPr/>
          <p:nvPr/>
        </p:nvSpPr>
        <p:spPr>
          <a:xfrm>
            <a:off x="1403280" y="1754280"/>
            <a:ext cx="736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89091"/>
          <p:cNvSpPr/>
          <p:nvPr/>
        </p:nvSpPr>
        <p:spPr>
          <a:xfrm>
            <a:off x="6372360" y="1744560"/>
            <a:ext cx="1250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90113" descr=""/>
          <p:cNvPicPr/>
          <p:nvPr/>
        </p:nvPicPr>
        <p:blipFill>
          <a:blip r:embed="rId1"/>
          <a:stretch/>
        </p:blipFill>
        <p:spPr>
          <a:xfrm>
            <a:off x="509760" y="1924200"/>
            <a:ext cx="8124480" cy="30096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90114"/>
          <p:cNvSpPr/>
          <p:nvPr/>
        </p:nvSpPr>
        <p:spPr>
          <a:xfrm>
            <a:off x="4788000" y="2492280"/>
            <a:ext cx="79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90115"/>
          <p:cNvSpPr/>
          <p:nvPr/>
        </p:nvSpPr>
        <p:spPr>
          <a:xfrm>
            <a:off x="7308720" y="2997360"/>
            <a:ext cx="7923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90116"/>
          <p:cNvSpPr/>
          <p:nvPr/>
        </p:nvSpPr>
        <p:spPr>
          <a:xfrm>
            <a:off x="7380360" y="4005360"/>
            <a:ext cx="792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91137" descr=""/>
          <p:cNvPicPr/>
          <p:nvPr/>
        </p:nvPicPr>
        <p:blipFill>
          <a:blip r:embed="rId1"/>
          <a:stretch/>
        </p:blipFill>
        <p:spPr>
          <a:xfrm>
            <a:off x="547560" y="1357200"/>
            <a:ext cx="80488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92161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34440" cy="5553360"/>
          </a:xfrm>
          <a:prstGeom prst="rect">
            <a:avLst/>
          </a:prstGeom>
          <a:ln w="0">
            <a:noFill/>
          </a:ln>
        </p:spPr>
      </p:pic>
      <p:sp>
        <p:nvSpPr>
          <p:cNvPr id="1471" name="矩形 92162"/>
          <p:cNvSpPr/>
          <p:nvPr/>
        </p:nvSpPr>
        <p:spPr>
          <a:xfrm>
            <a:off x="3924360" y="1341360"/>
            <a:ext cx="2663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92163"/>
          <p:cNvSpPr/>
          <p:nvPr/>
        </p:nvSpPr>
        <p:spPr>
          <a:xfrm>
            <a:off x="2050920" y="1820880"/>
            <a:ext cx="2808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92164"/>
          <p:cNvSpPr/>
          <p:nvPr/>
        </p:nvSpPr>
        <p:spPr>
          <a:xfrm>
            <a:off x="7093080" y="3860640"/>
            <a:ext cx="11509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2165"/>
          <p:cNvSpPr/>
          <p:nvPr/>
        </p:nvSpPr>
        <p:spPr>
          <a:xfrm>
            <a:off x="1332000" y="4365720"/>
            <a:ext cx="151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92166"/>
          <p:cNvSpPr/>
          <p:nvPr/>
        </p:nvSpPr>
        <p:spPr>
          <a:xfrm>
            <a:off x="3419640" y="5877000"/>
            <a:ext cx="9601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318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153280" cy="211464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93186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77439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94209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15160" cy="5562720"/>
          </a:xfrm>
          <a:prstGeom prst="rect">
            <a:avLst/>
          </a:prstGeom>
          <a:ln w="0">
            <a:noFill/>
          </a:ln>
        </p:spPr>
      </p:pic>
      <p:sp>
        <p:nvSpPr>
          <p:cNvPr id="1479" name="矩形 94210"/>
          <p:cNvSpPr/>
          <p:nvPr/>
        </p:nvSpPr>
        <p:spPr>
          <a:xfrm>
            <a:off x="6084720" y="2162160"/>
            <a:ext cx="8985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94211"/>
          <p:cNvSpPr/>
          <p:nvPr/>
        </p:nvSpPr>
        <p:spPr>
          <a:xfrm>
            <a:off x="3112920" y="3270240"/>
            <a:ext cx="15652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94212"/>
          <p:cNvSpPr/>
          <p:nvPr/>
        </p:nvSpPr>
        <p:spPr>
          <a:xfrm>
            <a:off x="5508720" y="3068640"/>
            <a:ext cx="25192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94213"/>
          <p:cNvSpPr/>
          <p:nvPr/>
        </p:nvSpPr>
        <p:spPr>
          <a:xfrm>
            <a:off x="5148360" y="3500280"/>
            <a:ext cx="43164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94214"/>
          <p:cNvSpPr/>
          <p:nvPr/>
        </p:nvSpPr>
        <p:spPr>
          <a:xfrm>
            <a:off x="2987640" y="4192560"/>
            <a:ext cx="187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94215"/>
          <p:cNvSpPr/>
          <p:nvPr/>
        </p:nvSpPr>
        <p:spPr>
          <a:xfrm>
            <a:off x="2771640" y="4653000"/>
            <a:ext cx="432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94216"/>
          <p:cNvSpPr/>
          <p:nvPr/>
        </p:nvSpPr>
        <p:spPr>
          <a:xfrm>
            <a:off x="5533920" y="4197240"/>
            <a:ext cx="2519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94217"/>
          <p:cNvSpPr/>
          <p:nvPr/>
        </p:nvSpPr>
        <p:spPr>
          <a:xfrm>
            <a:off x="5219640" y="4672080"/>
            <a:ext cx="1297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94218"/>
          <p:cNvSpPr/>
          <p:nvPr/>
        </p:nvSpPr>
        <p:spPr>
          <a:xfrm>
            <a:off x="1116000" y="5853240"/>
            <a:ext cx="4680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461880" y="1447920"/>
            <a:ext cx="8220240" cy="396216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4788000" y="2997360"/>
            <a:ext cx="431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95233" descr=""/>
          <p:cNvPicPr/>
          <p:nvPr/>
        </p:nvPicPr>
        <p:blipFill>
          <a:blip r:embed="rId1"/>
          <a:stretch/>
        </p:blipFill>
        <p:spPr>
          <a:xfrm>
            <a:off x="514440" y="1166760"/>
            <a:ext cx="81151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图片 96257" descr=""/>
          <p:cNvPicPr/>
          <p:nvPr/>
        </p:nvPicPr>
        <p:blipFill>
          <a:blip r:embed="rId1"/>
          <a:stretch/>
        </p:blipFill>
        <p:spPr>
          <a:xfrm>
            <a:off x="719280" y="1728720"/>
            <a:ext cx="77054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97281" descr=""/>
          <p:cNvPicPr/>
          <p:nvPr/>
        </p:nvPicPr>
        <p:blipFill>
          <a:blip r:embed="rId1"/>
          <a:stretch/>
        </p:blipFill>
        <p:spPr>
          <a:xfrm>
            <a:off x="895320" y="947880"/>
            <a:ext cx="7353360" cy="4962240"/>
          </a:xfrm>
          <a:prstGeom prst="rect">
            <a:avLst/>
          </a:prstGeom>
          <a:ln w="0">
            <a:noFill/>
          </a:ln>
        </p:spPr>
      </p:pic>
      <p:sp>
        <p:nvSpPr>
          <p:cNvPr id="1491" name="矩形 97282"/>
          <p:cNvSpPr/>
          <p:nvPr/>
        </p:nvSpPr>
        <p:spPr>
          <a:xfrm>
            <a:off x="1116000" y="1033560"/>
            <a:ext cx="68994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97283"/>
          <p:cNvSpPr/>
          <p:nvPr/>
        </p:nvSpPr>
        <p:spPr>
          <a:xfrm>
            <a:off x="1116000" y="1494000"/>
            <a:ext cx="61372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97284"/>
          <p:cNvSpPr/>
          <p:nvPr/>
        </p:nvSpPr>
        <p:spPr>
          <a:xfrm>
            <a:off x="1116000" y="1989000"/>
            <a:ext cx="60134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97285"/>
          <p:cNvSpPr/>
          <p:nvPr/>
        </p:nvSpPr>
        <p:spPr>
          <a:xfrm>
            <a:off x="846000" y="2517840"/>
            <a:ext cx="40420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97286"/>
          <p:cNvSpPr/>
          <p:nvPr/>
        </p:nvSpPr>
        <p:spPr>
          <a:xfrm>
            <a:off x="826920" y="3429000"/>
            <a:ext cx="48816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97289"/>
          <p:cNvSpPr/>
          <p:nvPr/>
        </p:nvSpPr>
        <p:spPr>
          <a:xfrm>
            <a:off x="1116000" y="3933720"/>
            <a:ext cx="5319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97290"/>
          <p:cNvSpPr/>
          <p:nvPr/>
        </p:nvSpPr>
        <p:spPr>
          <a:xfrm>
            <a:off x="971640" y="4454640"/>
            <a:ext cx="4262400" cy="70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97291"/>
          <p:cNvSpPr/>
          <p:nvPr/>
        </p:nvSpPr>
        <p:spPr>
          <a:xfrm>
            <a:off x="1042920" y="5300640"/>
            <a:ext cx="5319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457200" y="1652760"/>
            <a:ext cx="8229600" cy="355248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2"/>
          <p:cNvSpPr/>
          <p:nvPr/>
        </p:nvSpPr>
        <p:spPr>
          <a:xfrm>
            <a:off x="7812000" y="2708280"/>
            <a:ext cx="4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7043"/>
          <p:cNvSpPr/>
          <p:nvPr/>
        </p:nvSpPr>
        <p:spPr>
          <a:xfrm>
            <a:off x="7802640" y="4264200"/>
            <a:ext cx="431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6017" descr=""/>
          <p:cNvPicPr/>
          <p:nvPr/>
        </p:nvPicPr>
        <p:blipFill>
          <a:blip r:embed="rId1"/>
          <a:stretch/>
        </p:blipFill>
        <p:spPr>
          <a:xfrm>
            <a:off x="500040" y="966960"/>
            <a:ext cx="8143920" cy="4924080"/>
          </a:xfrm>
          <a:prstGeom prst="rect">
            <a:avLst/>
          </a:prstGeom>
          <a:ln w="0">
            <a:noFill/>
          </a:ln>
        </p:spPr>
      </p:pic>
      <p:sp>
        <p:nvSpPr>
          <p:cNvPr id="1439" name="矩形 86018"/>
          <p:cNvSpPr/>
          <p:nvPr/>
        </p:nvSpPr>
        <p:spPr>
          <a:xfrm>
            <a:off x="7792920" y="2527200"/>
            <a:ext cx="4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6019"/>
          <p:cNvSpPr/>
          <p:nvPr/>
        </p:nvSpPr>
        <p:spPr>
          <a:xfrm>
            <a:off x="7812000" y="3500280"/>
            <a:ext cx="4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4993" descr=""/>
          <p:cNvPicPr/>
          <p:nvPr/>
        </p:nvPicPr>
        <p:blipFill>
          <a:blip r:embed="rId1"/>
          <a:stretch/>
        </p:blipFill>
        <p:spPr>
          <a:xfrm>
            <a:off x="519120" y="947880"/>
            <a:ext cx="8105760" cy="496224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4994"/>
          <p:cNvSpPr/>
          <p:nvPr/>
        </p:nvSpPr>
        <p:spPr>
          <a:xfrm>
            <a:off x="7740720" y="1484280"/>
            <a:ext cx="43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3969" descr=""/>
          <p:cNvPicPr/>
          <p:nvPr/>
        </p:nvPicPr>
        <p:blipFill>
          <a:blip r:embed="rId1"/>
          <a:stretch/>
        </p:blipFill>
        <p:spPr>
          <a:xfrm>
            <a:off x="528480" y="1157400"/>
            <a:ext cx="8087040" cy="4543200"/>
          </a:xfrm>
          <a:prstGeom prst="rect">
            <a:avLst/>
          </a:prstGeom>
          <a:ln w="0">
            <a:noFill/>
          </a:ln>
        </p:spPr>
      </p:pic>
      <p:sp>
        <p:nvSpPr>
          <p:cNvPr id="1444" name="矩形 83970"/>
          <p:cNvSpPr/>
          <p:nvPr/>
        </p:nvSpPr>
        <p:spPr>
          <a:xfrm>
            <a:off x="4427640" y="2708280"/>
            <a:ext cx="431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82945" descr=""/>
          <p:cNvPicPr/>
          <p:nvPr/>
        </p:nvPicPr>
        <p:blipFill>
          <a:blip r:embed="rId1"/>
          <a:stretch/>
        </p:blipFill>
        <p:spPr>
          <a:xfrm>
            <a:off x="509760" y="1200240"/>
            <a:ext cx="8124480" cy="445752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2946"/>
          <p:cNvSpPr/>
          <p:nvPr/>
        </p:nvSpPr>
        <p:spPr>
          <a:xfrm>
            <a:off x="7740720" y="1773360"/>
            <a:ext cx="431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1921" descr=""/>
          <p:cNvPicPr/>
          <p:nvPr/>
        </p:nvPicPr>
        <p:blipFill>
          <a:blip r:embed="rId1"/>
          <a:stretch/>
        </p:blipFill>
        <p:spPr>
          <a:xfrm>
            <a:off x="928800" y="1843200"/>
            <a:ext cx="7286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80897" descr=""/>
          <p:cNvPicPr/>
          <p:nvPr/>
        </p:nvPicPr>
        <p:blipFill>
          <a:blip r:embed="rId1"/>
          <a:stretch/>
        </p:blipFill>
        <p:spPr>
          <a:xfrm>
            <a:off x="471600" y="1447920"/>
            <a:ext cx="8200800" cy="3962160"/>
          </a:xfrm>
          <a:prstGeom prst="rect">
            <a:avLst/>
          </a:prstGeom>
          <a:ln w="0">
            <a:noFill/>
          </a:ln>
        </p:spPr>
      </p:pic>
      <p:sp>
        <p:nvSpPr>
          <p:cNvPr id="1449" name="矩形 80898"/>
          <p:cNvSpPr/>
          <p:nvPr/>
        </p:nvSpPr>
        <p:spPr>
          <a:xfrm>
            <a:off x="7740720" y="1916280"/>
            <a:ext cx="431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8:10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